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471-9341-45DA-9254-E9621AC2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3BB-CD9A-426E-BC45-495E22F2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C90-E26A-43D9-BD81-D37D01A2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0BB-5BB0-41BD-B1D1-A0D8ABA3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8E1-CB75-402B-A1D6-218DD7C7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5C6-CEE6-472E-91F7-89ACFAA9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0DF-F36C-4F64-B14C-BAAC8ECD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5A0-0D4A-49E2-AFC0-1993EE3A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E01-808A-4C70-B52C-78EB741D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C76-5B0A-47BB-A925-11E7B235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537-36B7-4B2A-B570-9C8328CD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D42-35B0-4F6E-AC44-467AC494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4A65-3BDD-47FC-AFC5-BD9B4CECE1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640" y="1371600"/>
            <a:ext cx="610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Ratio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obabilit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1976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4038480"/>
            <a:ext cx="15717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61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62012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0" y="3657600"/>
            <a:ext cx="15717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81680" y="3602160"/>
            <a:ext cx="1571760" cy="51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619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35960" cy="220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50160" y="223056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30240" y="2611440"/>
            <a:ext cx="762012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30240" y="3678120"/>
            <a:ext cx="76201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331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467840" cy="2666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5720" y="57150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629400" y="281952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3330720"/>
            <a:ext cx="7467480" cy="70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9880" y="320040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200400"/>
            <a:ext cx="609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467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63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629400" y="259092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467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7467480" cy="930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553080" y="36576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11480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4191120"/>
            <a:ext cx="9907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93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467840" cy="26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05720" y="2514600"/>
            <a:ext cx="1600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97180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3048120"/>
            <a:ext cx="9903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39152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05720" y="5562720"/>
            <a:ext cx="15238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20:38Z</dcterms:modified>
  <cp:revision>212</cp:revision>
  <dc:subject/>
  <dc:title>Slide 1</dc:title>
</cp:coreProperties>
</file>